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8AB2-36EF-4027-8CBF-55C101CC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6C6-9379-4BA3-A1B9-5D977C42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AB2-4FE4-4398-AFEA-4AF840FF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706-2619-4AFB-8CFD-45B94130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850-281B-44F2-96CE-0406470D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FF9-53C1-439E-8FC2-77B07357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706-0E5E-40FC-9F65-82DE1F98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377-BD6C-4471-9F50-32033250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DE3-C34F-4A0B-B113-A28B8FCD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2F3-46A5-4E8D-A6F5-201C8B6C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FBD-A0C4-4A5B-AADD-67262D2D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A67-56EF-43A2-AD80-BC49DA45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8FE4B-F9B5-4C7E-8881-5E941651C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nversion after negative adverbi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t onl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d he fai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port the accident, but also later denied that he he’d been driving the ca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ave 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njoyed myself mor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me expressions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: never, rarely, seldo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are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n a minister have been forc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such a probl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ld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as the team giv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worse perform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are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ad I h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 much responsibil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me expressions: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 hardly, barely, scarcely, no soon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ly had the train left the station, when there was an explo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rcely had I entered the room when the phone ra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ooner had I reached the door than I realised it was loc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ooner was the team back on the pitch than it started to rai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n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nIy af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sting the lett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d I rememb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I had forgotten to put on a stam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nly if/when, only then, only la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7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onl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refers to 'the state of being the only one', there is no inversion following it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61756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nly M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alised that the door was not lock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rases containing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no/n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no conditio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re they to open fir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w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t unti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got hom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d I noti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I had taken the wrong umbrell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rases includ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nder no circumstances, on no account, at no time, in no way, on no condition, not until, not only ... (but also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type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ntence can be inverted withou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f they were to excape, there would be an outc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e they to escape, there would b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f the police had found out, I would ha ve been arres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d the police found out, I would have bee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f you should hear anything, let me k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you hear anything, let me k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0:45:33Z</dcterms:created>
  <dc:creator>Paul Filippetto</dc:creator>
  <dc:description/>
  <dc:language>en-US</dc:language>
  <cp:lastModifiedBy>Paul Filippetto</cp:lastModifiedBy>
  <dcterms:modified xsi:type="dcterms:W3CDTF">2014-11-06T13:25:10Z</dcterms:modified>
  <cp:revision>14</cp:revision>
  <dc:subject/>
  <dc:title>PowerPoint Presentation</dc:title>
</cp:coreProperties>
</file>